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09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79FEBB57-4D68-4CF3-95BD-AD17B0FF8AE7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8CB787CC-B299-497F-A89E-A3E55DE4BA57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lvl="1" marL="341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798480" algn="ctr">
              <a:spcBef>
                <a:spcPts val="326"/>
              </a:spcBef>
              <a:buClr>
                <a:srgbClr val="3a75c4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914400" algn="ctr">
              <a:spcBef>
                <a:spcPts val="326"/>
              </a:spcBef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028520" algn="ctr">
              <a:spcBef>
                <a:spcPts val="326"/>
              </a:spcBef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1E64CBEA-AB29-4D5E-922C-11B78612F1A2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77ED846-B8E6-43BD-94A4-67E96A0E4AC8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1:42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2880" y="3067200"/>
            <a:ext cx="39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Impact"/>
              </a:rPr>
              <a:t>March 31, 2010 Proposed Val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4040" y="19044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DRAFT 3/12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11T20:57:54Z</dcterms:modified>
  <cp:revision>4869</cp:revision>
  <dc:subject/>
  <dc:title>Page Title</dc:title>
</cp:coreProperties>
</file>